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4037-1858-44FC-92B7-D0756490E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C782-4EB3-44DB-91BA-81FAC000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70EF-27EF-46A7-A400-7D912EF58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B4BF-30E0-406F-B239-6A3FFEAC5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8BC4-D032-4BC9-8C45-446EBDCB4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9822-3BEE-46F0-9EA2-AFE15256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6E65-3DCF-40F7-AC08-DCC853D6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9788-898B-4598-9D30-125D0593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9532-982E-4CD9-B62D-CA857BC8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F586-7EB0-4314-98C7-D517796B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9237-9C99-4D91-A7E9-339F10BE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7F48-1B5C-4ABA-95E5-F4BAEED3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0FE1-9DBC-4924-9DB5-E69D4FEF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FBBF-BD0F-4004-80F6-48E45683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B24F-A4E3-4FBE-821D-455E179A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EB56-50E1-422A-B537-485AD30BD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BD77-6DE1-4ED4-B501-070333C1C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9948-62C2-459C-92A2-CC1C0695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FE19-FF8A-4F56-83EB-F5728A5E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E44F-89B3-4E79-AB0A-4373A863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1C9F-1BA7-473F-A945-0EF5ED24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E62E-4B17-47B7-8351-486D86D5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3F6A-1DD5-4885-B065-EDDE133C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7F95-0882-4799-84E3-D9F59027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eyg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31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版权所有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(2006~2008) ey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0369-18E5-4447-A7F3-E4AC4C22FA82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6948360" y="333360"/>
            <a:ext cx="1619280" cy="100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版权所有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(2005~2008)ey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F6EE-0E77-4527-89EA-3ADE2F42BA9E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804000" y="981000"/>
            <a:ext cx="1619280" cy="1000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eygle@hotmail.com" TargetMode="External"/><Relationship Id="rId3" Type="http://schemas.openxmlformats.org/officeDocument/2006/relationships/hyperlink" Target="http://www.eygle.com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Oracle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之路与数据库优化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779640" y="4365360"/>
            <a:ext cx="4924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盖国强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(eygl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MSN: </a:t>
            </a:r>
            <a:r>
              <a:rPr b="0" lang="zh-CN" sz="2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eygle@hotmail.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Site : </a:t>
            </a:r>
            <a:r>
              <a:rPr b="0" lang="zh-CN" sz="28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www.eygle.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Oracle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性能优化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理想与现实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6813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理想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防患胜于救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应用程序的开发最终决定了数据库系统的成败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全系统的介入与优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数据库人员应当全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介入系统的设计与建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现实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接手的系统一团混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开发无源可溯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995640" y="3141720"/>
          <a:ext cx="4969080" cy="309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5640" y="3141720"/>
                    <a:ext cx="496908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Oracle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优化概论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843200" y="5275440"/>
            <a:ext cx="1218600" cy="837360"/>
            <a:chOff x="1843200" y="5275440"/>
            <a:chExt cx="1218600" cy="837360"/>
          </a:xfrm>
        </p:grpSpPr>
        <p:grpSp>
          <p:nvGrpSpPr>
            <p:cNvPr id="113" name=""/>
            <p:cNvGrpSpPr/>
            <p:nvPr/>
          </p:nvGrpSpPr>
          <p:grpSpPr>
            <a:xfrm>
              <a:off x="1843200" y="5275440"/>
              <a:ext cx="1218600" cy="837360"/>
              <a:chOff x="1843200" y="5275440"/>
              <a:chExt cx="1218600" cy="837360"/>
            </a:xfrm>
          </p:grpSpPr>
          <p:sp>
            <p:nvSpPr>
              <p:cNvPr id="114" name=""/>
              <p:cNvSpPr/>
              <p:nvPr/>
            </p:nvSpPr>
            <p:spPr>
              <a:xfrm>
                <a:off x="1843200" y="5445720"/>
                <a:ext cx="1218600" cy="500040"/>
              </a:xfrm>
              <a:prstGeom prst="rect">
                <a:avLst/>
              </a:prstGeom>
              <a:solidFill>
                <a:srgbClr val="9999ff"/>
              </a:solidFill>
              <a:ln w="32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843200" y="5275440"/>
                <a:ext cx="1218600" cy="321120"/>
              </a:xfrm>
              <a:prstGeom prst="ellipse">
                <a:avLst/>
              </a:prstGeom>
              <a:solidFill>
                <a:srgbClr val="ccccff"/>
              </a:solidFill>
              <a:ln w="32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843200" y="5791680"/>
                <a:ext cx="1218600" cy="321120"/>
              </a:xfrm>
              <a:prstGeom prst="ellipse">
                <a:avLst/>
              </a:prstGeom>
              <a:solidFill>
                <a:srgbClr val="9999ff"/>
              </a:solidFill>
              <a:ln w="32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915200" y="5502600"/>
              <a:ext cx="107388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 algn="ctr"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Arial"/>
                </a:rPr>
                <a:t>Passwo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Arial"/>
                </a:rPr>
                <a:t>fi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03920" y="3784320"/>
            <a:ext cx="207720" cy="990360"/>
            <a:chOff x="4903920" y="3784320"/>
            <a:chExt cx="207720" cy="990360"/>
          </a:xfrm>
        </p:grpSpPr>
        <p:sp>
          <p:nvSpPr>
            <p:cNvPr id="119" name=""/>
            <p:cNvSpPr/>
            <p:nvPr/>
          </p:nvSpPr>
          <p:spPr>
            <a:xfrm>
              <a:off x="5111640" y="4070160"/>
              <a:ext cx="0" cy="70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4903920" y="3784320"/>
              <a:ext cx="0" cy="70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H="1">
            <a:off x="1839960" y="3094200"/>
            <a:ext cx="704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49520" y="1407960"/>
            <a:ext cx="4950000" cy="2667240"/>
          </a:xfrm>
          <a:prstGeom prst="rect">
            <a:avLst/>
          </a:prstGeom>
          <a:solidFill>
            <a:srgbClr val="ff66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t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79760" y="1727280"/>
            <a:ext cx="4803840" cy="1805040"/>
          </a:xfrm>
          <a:prstGeom prst="rect">
            <a:avLst/>
          </a:prstGeom>
          <a:solidFill>
            <a:srgbClr val="cc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t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34240" y="2170080"/>
            <a:ext cx="1325520" cy="476280"/>
          </a:xfrm>
          <a:prstGeom prst="rect">
            <a:avLst/>
          </a:prstGeom>
          <a:solidFill>
            <a:srgbClr val="ff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o Lo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87760" y="1820880"/>
            <a:ext cx="1573200" cy="1614600"/>
          </a:xfrm>
          <a:prstGeom prst="rect">
            <a:avLst/>
          </a:prstGeom>
          <a:solidFill>
            <a:srgbClr val="ff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t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red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08360" y="2857680"/>
            <a:ext cx="1326960" cy="539640"/>
          </a:xfrm>
          <a:prstGeom prst="rect">
            <a:avLst/>
          </a:prstGeom>
          <a:solidFill>
            <a:srgbClr val="ff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Dictionar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08360" y="2249640"/>
            <a:ext cx="1326960" cy="537840"/>
          </a:xfrm>
          <a:prstGeom prst="rect">
            <a:avLst/>
          </a:prstGeom>
          <a:solidFill>
            <a:srgbClr val="ff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43320" y="3594240"/>
            <a:ext cx="723960" cy="426960"/>
          </a:xfrm>
          <a:prstGeom prst="ellipse">
            <a:avLst/>
          </a:prstGeom>
          <a:solidFill>
            <a:srgbClr val="ff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BW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35480" y="3594240"/>
            <a:ext cx="723600" cy="426960"/>
          </a:xfrm>
          <a:prstGeom prst="ellipse">
            <a:avLst/>
          </a:prstGeom>
          <a:solidFill>
            <a:srgbClr val="ff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30520" y="3594240"/>
            <a:ext cx="723960" cy="426960"/>
          </a:xfrm>
          <a:prstGeom prst="ellipse">
            <a:avLst/>
          </a:prstGeom>
          <a:solidFill>
            <a:srgbClr val="ff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43520" y="3594240"/>
            <a:ext cx="719280" cy="426960"/>
          </a:xfrm>
          <a:prstGeom prst="ellipse">
            <a:avLst/>
          </a:prstGeom>
          <a:solidFill>
            <a:srgbClr val="ff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K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33880" y="3594240"/>
            <a:ext cx="723960" cy="426960"/>
          </a:xfrm>
          <a:prstGeom prst="ellipse">
            <a:avLst/>
          </a:prstGeom>
          <a:solidFill>
            <a:srgbClr val="ff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GW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3594240"/>
            <a:ext cx="719280" cy="426960"/>
          </a:xfrm>
          <a:prstGeom prst="ellipse">
            <a:avLst/>
          </a:prstGeom>
          <a:solidFill>
            <a:srgbClr val="ff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52480" y="741240"/>
            <a:ext cx="1295280" cy="762120"/>
          </a:xfrm>
          <a:prstGeom prst="ellipse">
            <a:avLst/>
          </a:prstGeom>
          <a:solidFill>
            <a:srgbClr val="ff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57160" y="2692440"/>
            <a:ext cx="1295640" cy="762120"/>
          </a:xfrm>
          <a:prstGeom prst="ellipse">
            <a:avLst/>
          </a:prstGeom>
          <a:solidFill>
            <a:srgbClr val="ff9b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dddddd"/>
                </a:solidFill>
                <a:latin typeface="Arial"/>
              </a:rPr>
              <a:t>Server</a:t>
            </a:r>
            <a:br>
              <a:rPr sz="1400"/>
            </a:br>
            <a:r>
              <a:rPr b="1" lang="en-US" sz="1400" spc="-1" strike="noStrike">
                <a:solidFill>
                  <a:srgbClr val="dddddd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84440" y="3330720"/>
            <a:ext cx="592200" cy="311040"/>
          </a:xfrm>
          <a:prstGeom prst="rect">
            <a:avLst/>
          </a:prstGeom>
          <a:solidFill>
            <a:srgbClr val="95c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dddddd"/>
                </a:solidFill>
                <a:latin typeface="Arial"/>
              </a:rPr>
              <a:t>P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14800" y="4484520"/>
            <a:ext cx="3289320" cy="1839960"/>
          </a:xfrm>
          <a:prstGeom prst="rect">
            <a:avLst/>
          </a:prstGeom>
          <a:solidFill>
            <a:srgbClr val="ff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492800" y="5122800"/>
            <a:ext cx="912240" cy="653760"/>
            <a:chOff x="4492800" y="5122800"/>
            <a:chExt cx="912240" cy="653760"/>
          </a:xfrm>
        </p:grpSpPr>
        <p:sp>
          <p:nvSpPr>
            <p:cNvPr id="139" name=""/>
            <p:cNvSpPr/>
            <p:nvPr/>
          </p:nvSpPr>
          <p:spPr>
            <a:xfrm>
              <a:off x="4492800" y="5256000"/>
              <a:ext cx="912240" cy="3906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92800" y="5122800"/>
              <a:ext cx="912240" cy="250560"/>
            </a:xfrm>
            <a:prstGeom prst="ellipse">
              <a:avLst/>
            </a:pr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92800" y="5526000"/>
              <a:ext cx="912240" cy="25056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492800" y="4570560"/>
            <a:ext cx="912240" cy="653760"/>
            <a:chOff x="4492800" y="4570560"/>
            <a:chExt cx="912240" cy="653760"/>
          </a:xfrm>
        </p:grpSpPr>
        <p:sp>
          <p:nvSpPr>
            <p:cNvPr id="143" name=""/>
            <p:cNvSpPr/>
            <p:nvPr/>
          </p:nvSpPr>
          <p:spPr>
            <a:xfrm>
              <a:off x="4492800" y="4703760"/>
              <a:ext cx="912240" cy="3906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492800" y="4570560"/>
              <a:ext cx="912240" cy="250560"/>
            </a:xfrm>
            <a:prstGeom prst="ellipse">
              <a:avLst/>
            </a:pr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92800" y="4973760"/>
              <a:ext cx="912240" cy="25056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367080" y="5649840"/>
            <a:ext cx="990360" cy="653760"/>
            <a:chOff x="3367080" y="5649840"/>
            <a:chExt cx="990360" cy="653760"/>
          </a:xfrm>
        </p:grpSpPr>
        <p:sp>
          <p:nvSpPr>
            <p:cNvPr id="147" name=""/>
            <p:cNvSpPr/>
            <p:nvPr/>
          </p:nvSpPr>
          <p:spPr>
            <a:xfrm>
              <a:off x="3367080" y="5783040"/>
              <a:ext cx="990360" cy="3906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67080" y="5649840"/>
              <a:ext cx="990360" cy="250560"/>
            </a:xfrm>
            <a:prstGeom prst="ellipse">
              <a:avLst/>
            </a:pr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367080" y="6053040"/>
              <a:ext cx="990360" cy="25056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67080" y="5114880"/>
            <a:ext cx="990360" cy="653760"/>
            <a:chOff x="3367080" y="5114880"/>
            <a:chExt cx="990360" cy="653760"/>
          </a:xfrm>
        </p:grpSpPr>
        <p:sp>
          <p:nvSpPr>
            <p:cNvPr id="151" name=""/>
            <p:cNvSpPr/>
            <p:nvPr/>
          </p:nvSpPr>
          <p:spPr>
            <a:xfrm>
              <a:off x="3367080" y="5248080"/>
              <a:ext cx="990360" cy="3906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67080" y="5114880"/>
              <a:ext cx="990360" cy="250560"/>
            </a:xfrm>
            <a:prstGeom prst="ellipse">
              <a:avLst/>
            </a:pr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67080" y="5518080"/>
              <a:ext cx="990360" cy="25056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368520" y="4570560"/>
            <a:ext cx="988920" cy="653760"/>
            <a:chOff x="3368520" y="4570560"/>
            <a:chExt cx="988920" cy="653760"/>
          </a:xfrm>
        </p:grpSpPr>
        <p:sp>
          <p:nvSpPr>
            <p:cNvPr id="155" name=""/>
            <p:cNvSpPr/>
            <p:nvPr/>
          </p:nvSpPr>
          <p:spPr>
            <a:xfrm>
              <a:off x="3368520" y="4703760"/>
              <a:ext cx="988920" cy="3906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68520" y="4570560"/>
              <a:ext cx="988920" cy="250560"/>
            </a:xfrm>
            <a:prstGeom prst="ellipse">
              <a:avLst/>
            </a:pr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68520" y="4973760"/>
              <a:ext cx="988920" cy="25056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4363920" y="4775040"/>
            <a:ext cx="11700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en-US" sz="1400" spc="-1" strike="noStrike">
                <a:solidFill>
                  <a:srgbClr val="dddddd"/>
                </a:solidFill>
                <a:latin typeface="Arial"/>
              </a:rPr>
              <a:t>Control 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52960" y="4813200"/>
            <a:ext cx="1218960" cy="5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en-US" sz="1400" spc="-1" strike="noStrike">
                <a:solidFill>
                  <a:srgbClr val="dddddd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en-US" sz="1400" spc="-1" strike="noStrike">
                <a:solidFill>
                  <a:srgbClr val="dddddd"/>
                </a:solidFill>
                <a:latin typeface="Arial"/>
              </a:rPr>
              <a:t>fi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96600" y="5846760"/>
            <a:ext cx="12459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t">
            <a:sp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519880" y="5116680"/>
            <a:ext cx="912240" cy="653760"/>
            <a:chOff x="5519880" y="5116680"/>
            <a:chExt cx="912240" cy="653760"/>
          </a:xfrm>
        </p:grpSpPr>
        <p:sp>
          <p:nvSpPr>
            <p:cNvPr id="162" name=""/>
            <p:cNvSpPr/>
            <p:nvPr/>
          </p:nvSpPr>
          <p:spPr>
            <a:xfrm>
              <a:off x="5519880" y="5249880"/>
              <a:ext cx="912240" cy="3906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19880" y="5116680"/>
              <a:ext cx="912240" cy="250560"/>
            </a:xfrm>
            <a:prstGeom prst="ellipse">
              <a:avLst/>
            </a:pr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19880" y="5519880"/>
              <a:ext cx="912240" cy="25056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4375080" y="2166840"/>
            <a:ext cx="1511280" cy="908280"/>
          </a:xfrm>
          <a:prstGeom prst="rect">
            <a:avLst/>
          </a:prstGeom>
          <a:solidFill>
            <a:srgbClr val="ff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bas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ffer 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519880" y="4599000"/>
            <a:ext cx="912240" cy="653760"/>
            <a:chOff x="5519880" y="4599000"/>
            <a:chExt cx="912240" cy="653760"/>
          </a:xfrm>
        </p:grpSpPr>
        <p:sp>
          <p:nvSpPr>
            <p:cNvPr id="167" name=""/>
            <p:cNvSpPr/>
            <p:nvPr/>
          </p:nvSpPr>
          <p:spPr>
            <a:xfrm>
              <a:off x="5519880" y="4732200"/>
              <a:ext cx="912240" cy="3906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19880" y="4599000"/>
              <a:ext cx="912240" cy="250560"/>
            </a:xfrm>
            <a:prstGeom prst="ellipse">
              <a:avLst/>
            </a:pr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19880" y="5002200"/>
              <a:ext cx="912240" cy="25056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5500800" y="4818240"/>
            <a:ext cx="104292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en-US" sz="1400" spc="-1" strike="noStrike">
                <a:solidFill>
                  <a:srgbClr val="dddddd"/>
                </a:solidFill>
                <a:latin typeface="Arial"/>
              </a:rPr>
              <a:t>Redo Log 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60760" y="3121200"/>
            <a:ext cx="1339920" cy="328320"/>
          </a:xfrm>
          <a:prstGeom prst="rect">
            <a:avLst/>
          </a:prstGeom>
          <a:solidFill>
            <a:srgbClr val="ff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va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48280" y="3070080"/>
            <a:ext cx="1282680" cy="385920"/>
          </a:xfrm>
          <a:prstGeom prst="rect">
            <a:avLst/>
          </a:prstGeom>
          <a:solidFill>
            <a:srgbClr val="ff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rge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832040" y="4589640"/>
            <a:ext cx="1218600" cy="837360"/>
            <a:chOff x="1832040" y="4589640"/>
            <a:chExt cx="1218600" cy="837360"/>
          </a:xfrm>
        </p:grpSpPr>
        <p:sp>
          <p:nvSpPr>
            <p:cNvPr id="174" name=""/>
            <p:cNvSpPr/>
            <p:nvPr/>
          </p:nvSpPr>
          <p:spPr>
            <a:xfrm>
              <a:off x="1832040" y="4759920"/>
              <a:ext cx="1218600" cy="500040"/>
            </a:xfrm>
            <a:prstGeom prst="rect">
              <a:avLst/>
            </a:prstGeom>
            <a:solidFill>
              <a:srgbClr val="9999ff"/>
            </a:solidFill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32040" y="4589640"/>
              <a:ext cx="1218600" cy="321120"/>
            </a:xfrm>
            <a:prstGeom prst="ellipse">
              <a:avLst/>
            </a:prstGeom>
            <a:solidFill>
              <a:srgbClr val="ccccff"/>
            </a:solidFill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32040" y="5105880"/>
              <a:ext cx="1218600" cy="321120"/>
            </a:xfrm>
            <a:prstGeom prst="ellipse">
              <a:avLst/>
            </a:prstGeom>
            <a:solidFill>
              <a:srgbClr val="9999ff"/>
            </a:solidFill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841040" y="4894200"/>
            <a:ext cx="110592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t">
            <a:sp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400" spc="-1" strike="noStrike">
                <a:solidFill>
                  <a:srgbClr val="dddddd"/>
                </a:solidFill>
                <a:latin typeface="Arial"/>
              </a:rPr>
              <a:t>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400" spc="-1" strike="noStrike">
                <a:solidFill>
                  <a:srgbClr val="dddddd"/>
                </a:solidFill>
                <a:latin typeface="Arial"/>
              </a:rPr>
              <a:t>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791400" y="4665600"/>
            <a:ext cx="1218600" cy="838080"/>
            <a:chOff x="6791400" y="4665600"/>
            <a:chExt cx="1218600" cy="838080"/>
          </a:xfrm>
        </p:grpSpPr>
        <p:sp>
          <p:nvSpPr>
            <p:cNvPr id="179" name=""/>
            <p:cNvSpPr/>
            <p:nvPr/>
          </p:nvSpPr>
          <p:spPr>
            <a:xfrm>
              <a:off x="6791400" y="4836240"/>
              <a:ext cx="1218600" cy="500400"/>
            </a:xfrm>
            <a:prstGeom prst="rect">
              <a:avLst/>
            </a:prstGeom>
            <a:solidFill>
              <a:srgbClr val="9999ff"/>
            </a:solidFill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91400" y="4665600"/>
              <a:ext cx="1218600" cy="321480"/>
            </a:xfrm>
            <a:prstGeom prst="ellipse">
              <a:avLst/>
            </a:prstGeom>
            <a:solidFill>
              <a:srgbClr val="ccccff"/>
            </a:solidFill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91400" y="5182200"/>
              <a:ext cx="1218600" cy="321480"/>
            </a:xfrm>
            <a:prstGeom prst="ellipse">
              <a:avLst/>
            </a:prstGeom>
            <a:solidFill>
              <a:srgbClr val="9999ff"/>
            </a:solidFill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6869880" y="4970520"/>
            <a:ext cx="104472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t">
            <a:sp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400" spc="-1" strike="noStrike">
                <a:solidFill>
                  <a:srgbClr val="dddddd"/>
                </a:solidFill>
                <a:latin typeface="Arial"/>
              </a:rPr>
              <a:t>Archiv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400" spc="-1" strike="noStrike">
                <a:solidFill>
                  <a:srgbClr val="dddddd"/>
                </a:solidFill>
                <a:latin typeface="Arial"/>
              </a:rPr>
              <a:t>Log 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211284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397720" y="357516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38280" y="15033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9720" y="167004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15400" y="1427040"/>
            <a:ext cx="457200" cy="4724640"/>
          </a:xfrm>
          <a:custGeom>
            <a:avLst/>
            <a:gdLst>
              <a:gd name="textAreaLeft" fmla="*/ 0 w 457200"/>
              <a:gd name="textAreaRight" fmla="*/ 164880 w 457200"/>
              <a:gd name="textAreaTop" fmla="*/ 123120 h 4724640"/>
              <a:gd name="textAreaBottom" fmla="*/ 4601520 h 472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8200" y="1351080"/>
            <a:ext cx="228600" cy="2666880"/>
          </a:xfrm>
          <a:custGeom>
            <a:avLst/>
            <a:gdLst>
              <a:gd name="textAreaLeft" fmla="*/ 0 w 228600"/>
              <a:gd name="textAreaRight" fmla="*/ 82440 w 22860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61960" y="4475160"/>
            <a:ext cx="152640" cy="1828800"/>
          </a:xfrm>
          <a:custGeom>
            <a:avLst/>
            <a:gdLst>
              <a:gd name="textAreaLeft" fmla="*/ 97560 w 152640"/>
              <a:gd name="textAreaRight" fmla="*/ 153000 w 1526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01640" y="5084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635960" y="24940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58000" y="2722680"/>
            <a:ext cx="1282680" cy="304560"/>
          </a:xfrm>
          <a:prstGeom prst="rect">
            <a:avLst/>
          </a:prstGeom>
          <a:solidFill>
            <a:srgbClr val="ff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eams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estions &amp; Answ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406404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bjec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Oracle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学习之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BA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四大守则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Oracle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优化概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Itpub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技术丛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2552760" cy="3476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348000" y="1844640"/>
            <a:ext cx="2521080" cy="3240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227640" y="1844640"/>
            <a:ext cx="24354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Oracle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学习之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兴趣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勤奋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坚持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方法 ≈ 成功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很遗憾我不能给以上公式画上“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=”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，但是无关紧要，只要具备了以上因素，我想我们每个人都会离成功不远了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不只是对于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Oracle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学习，对于整个人生，也许都是如此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我们祝愿大家离成功越来越近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Oracle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学习之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基础重于一切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独立思考才能提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严谨是一种素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通过实践检验知识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DBA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四大守则之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备份重于一切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系统总是要崩溃的，没有有效的备份只是等哪一天</a:t>
            </a:r>
            <a:r>
              <a:rPr b="0" i="1" lang="zh-CN" sz="3000" spc="-1" strike="noStrike">
                <a:solidFill>
                  <a:srgbClr val="000000"/>
                </a:solidFill>
                <a:latin typeface="Verdana"/>
              </a:rPr>
              <a:t>死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DBA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四大守则之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三思而后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zh-CN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zh-CN" sz="3000" spc="-1" strike="noStrike">
                <a:solidFill>
                  <a:srgbClr val="ff0000"/>
                </a:solidFill>
                <a:latin typeface="Verdana"/>
              </a:rPr>
              <a:t>think thrice before you a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任何时候都要清楚你所做的一切，否则宁可不做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DBA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四大守则之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rm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是危险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要知道在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Unix/Linux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下，这个操作意味着你可能永远失去后面的东西，所以，确认你的操作！！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一知半解比无知更可怕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DBA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四大守则之四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你来制定规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不以规矩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不成方圆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9T14:28:16Z</dcterms:created>
  <dc:creator>盖国强</dc:creator>
  <dc:description/>
  <dc:language>en-US</dc:language>
  <cp:lastModifiedBy>eygle</cp:lastModifiedBy>
  <dcterms:modified xsi:type="dcterms:W3CDTF">2006-09-04T02:25:45Z</dcterms:modified>
  <cp:revision>26</cp:revision>
  <dc:subject/>
  <dc:title>Oracle数据库性能优化</dc:title>
</cp:coreProperties>
</file>